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92B-4565-4495-A20E-86FD88A9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1708-8DBF-44F8-B606-F64DB073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D38-B428-4F5A-B2FC-004568E3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E52-AA6F-4C5C-A7D2-65C0D6C3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F495-F614-41E3-8608-12806E6D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7078-213D-4778-A33F-7F8BAA8C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45DA-FF11-4A91-A55B-9D0A95F2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55B5-5AD7-4F45-A93A-163DA36B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2AEC-3134-436E-9BE3-D605FED2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823A-92A3-4673-8CC3-95D69C02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E13D-5F93-4A26-94F7-941C7092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A19-E435-4D1D-93C0-9E161DBA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CB08-C552-4BB7-B93D-8FACEEA5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BB56-77D7-4E7F-9B47-0AD2BB47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7B19-2FDA-416C-ACD2-FC1D0529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E05A-0388-42E9-8EF5-4241F8CE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A6AF-5792-49CC-9A4A-2EECD2B7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8B6E-B7ED-43CB-80E7-CAE01D88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728-A60A-4CC4-A8D8-125DBEB0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6110-6188-43D3-B83B-E0372A69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A61A-AAF6-4735-B134-9FB99361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687-1F09-468F-84EF-7D941C0E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5DB2-73E3-4FB6-BA5B-9B4F0AFC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4F7F-EEC2-4EF0-A9E4-183326E5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5ED2-30AC-4DAB-8542-FF6A387197E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73FB-1A81-4C7E-9C98-63515ED956CA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O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xplanation : clarify:: _____ : ______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reward:recap, picture:replace, example:illustrate, omission:emphasiz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at is the relationship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irth : happiness :: importinence : _____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spect, merriment, insolence, degrad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at is the relationship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sw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xample: illustrat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y are the sam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solen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y are the sam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reewrit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rite about anyth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5 minut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Homophones-write a homophone for the following words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cit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gh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ho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lu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oar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ach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tea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alect-continue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ad the Mark Twain excerpt and underline all examples of dialect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hapter 5 questio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. When Scout begins to drift away from the boys, with whom does she spend much time?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. Why does Miss Maudie hate her house?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. Why do the children have faith in Miss Maudie?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. How do the children try to send the message to Boo?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5. What does Miss Maudie mean when she says Atticus is the same in his house as he is on the public streets?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uestions-continue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6. What does Uncle Jack yell at Miss Maudie each Christmas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7. Atticus uses something like a threat when he finds the children trying to get a note to Boo Radley. What is the threat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8. Uncle Jack Finch says the “best defense to her [Miss Maudie] was spirited offense.” What does he mean by that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9. What does Miss Maudie mean when she says that the things told about Arthur Radley are “three-fourths colored folks and one-fourth Stephanie Crawford”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0. What gesture of friendship cements Miss Maudie’s and Scout’s relationship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ssignment: Do the following response journal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 notebook, one paragrap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iss Maudie says, “…sometimes the Bible in the hand of one man is worse than a whiskey bottle in the hand of someone else.” Try to explain what she means by thi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omework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ad Ch. 6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on’t forget to work on A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5:31:47Z</dcterms:created>
  <dc:creator>Angie</dc:creator>
  <dc:description/>
  <dc:language>en-US</dc:language>
  <cp:lastModifiedBy>rebecca</cp:lastModifiedBy>
  <dcterms:modified xsi:type="dcterms:W3CDTF">2009-01-27T15:38:29Z</dcterms:modified>
  <cp:revision>4</cp:revision>
  <dc:subject/>
  <dc:title>DOA</dc:title>
</cp:coreProperties>
</file>